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7B61-D0FD-4080-9D16-35D3C6E8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9A4D-DD71-4551-88FB-1B3CF8F6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D6FD7-D4C1-4253-AE51-89372C13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68784-58E6-4FDA-A7A8-9761A482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3A5AC-EB1B-4BA3-B362-C1B4B947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E9F43-06B8-4AE7-85EB-25AAD521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93E10-A9A8-43CA-AE7D-1455366F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8EB89-4357-44D8-8DDD-E0E20E7A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254D4-BC92-4B33-964E-7EE2D7CD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D8091-1D93-4421-AA4C-CEEFFF8A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4802E-E060-4094-B50C-973F454F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C51A4-9E66-4095-9FE1-8B363C92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7066-9B9B-45A5-8613-11355BCB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034B2-6E8A-477B-AC6B-4D0FEEAF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2C91C-0B45-4044-BE95-DF20ADDB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2FACA-F904-4BB1-8B6B-BC7D3422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9A502-CF69-427F-87C6-D4CA50C7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D2E19-582C-4EA2-AA68-380826D0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39294-057A-4742-B4BB-12D43182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60F55-0CB0-4C11-8312-EF986019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DC5D8-9E41-4DDA-BAC3-6DE0F0D8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A4BB2-D9F1-4021-827F-3C0AB4D9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2B405-A516-4C19-B8CB-F9B86AAF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2388-368C-411A-8746-B6F904D9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2E821-E0EE-4EED-9829-6D7CE75F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5B060-A386-4194-B858-7AB9C5FF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1B01C-6704-4C75-A842-8AF81969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D6C34-8024-4DF6-A95E-0363086A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00BE4-666B-4C7F-A34A-507C09D0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A196F-9521-4EAD-AC26-02FC23A2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143F0-4E3E-4E59-AC2E-43869121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8CE65-1782-476A-9B20-D4357C82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18EE6-8171-4549-BC1B-088DEDB5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80175-E62F-465E-BD6E-8354AB83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A6CC-BEC3-4155-B2B6-33E92C99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BFDAD-9BD4-4B77-BE82-8FF325F1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2AB3B-27A4-4A88-8D28-E73836E4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6014C-C356-43D1-B875-2FD4C234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E73F5-02DF-4313-8CBC-51C1339C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127C0-F9DE-45F1-8F4C-10923E33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20ABA-9789-4D7B-AC8A-C816D794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708EF-AA54-45EA-8F08-000F3178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30622-F9E5-4C92-8F59-6FA86FC9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FC8D4-61C3-4AA5-A21B-02FA548F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4988D-EBDF-4092-9611-DF85C25E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051B-A729-4D47-A362-A1C8FFC9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28FE5-0194-494E-9E36-27D7CB47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D359D-8A68-4B93-9218-2667892B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1B75D-41E6-4F1E-830B-11FB8E4D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F95C2-A937-43AA-90DF-DB55D679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FDB14-C283-45C9-B043-A36D47B3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71906-EAF1-4732-8004-22B269B6F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2C0FB6-6283-4A72-B701-5BD136E0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4F8BFE-199B-4319-9D96-C87E4EE9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0B3797-7126-4AD6-83AA-90696F94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FC6928-2A17-410F-88E3-113978D4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A4D0-2A4E-40F0-AC32-48E146CE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678114-F18E-44E0-8DB9-1F7D596B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EE98A1-C2B3-4229-96AC-01F73E2A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DF5FAC-E899-4581-A7DD-0C814A07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0E03E-9DDF-462C-971D-A6AF995B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C8D81E-2158-4A2E-BFCA-B5A3A807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B5BE82-6D5E-40B5-AF58-23CCD8DF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830347-4019-496D-9417-43A998ED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C53DDB-F1EF-4A9E-B9E2-CA944152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B3A807-D3F3-4F52-9F25-CA984D90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D6E5B3-0D4A-4A97-BB14-695AF48F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B397-935C-4877-A8C3-002C52EC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656EC3-9AD6-4B77-AFFC-F3D6622E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9EF0EF-A42B-480C-B863-B15264D6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033D85-ED15-4D04-AEA5-5176EB76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1D82AA-3E83-4BED-BEBA-4BAF8024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EE3376-3D21-4338-B12E-374D076F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69B669-8E80-4E1F-AF57-2D284A90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045B44-947D-41BD-855D-FBEF8365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A2AE08-B30C-49B9-B7F2-A69FA42D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3889B0-BDBE-4E27-AC81-64FAB772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FB1954-7D48-4DCE-B5FF-C354D1C3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73E9-F566-4635-B9D6-9E7F489A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F51289-5AB2-440E-BA85-18510E2A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CCFDFE-4C65-4C33-A893-3AE97CD9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8E58FB-64D1-4AE2-8C66-D07452A9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BE3E64-AF78-46C2-A48C-4D06A34A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60CA52-36A4-4CAE-A78B-FE832A9A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99A01A-4AAB-4977-8C0B-B51F86EC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4EE195-CFA8-47C6-91FC-7E0C6143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F6EA3F-58F6-4A2E-AAA1-0CC810E1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D012B9-4587-44A9-A4CA-B224460A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1ED367-56EA-4AA5-97B7-8C40FA71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F2FE-E0D1-4242-8D38-4C8A56DA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782934-3C86-41E8-B92A-8924AF24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84CFB4-1973-44CE-AF9A-1A23462F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819BE7-55C1-4283-AE89-81748E8D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BA2516-CF4C-4A34-87D1-D099BEC6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CAF2C9-B04D-43AE-8E85-79F0A948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DC824F-C57E-4B1B-A683-187117EF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BF517E-EF07-4EF5-95CF-38D6B499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BDFAE5-CFC7-4C37-A5B6-B101366D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01C6FA-2E88-4A93-A2BB-58C5E61F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4DA2D3-3072-4594-87B1-6EE8552E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F6F0-79A0-496A-B560-7D81B42B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CE8824-21AB-4FD8-8E51-9C947CCD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87E715-A13D-4493-B8F7-DFDDFBFA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F2CCA3-7C60-4F23-865D-093E234D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A37855-E161-44F7-8139-BA0DFB1C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839C2D-6DA6-4339-AF34-64D2F5C6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8DDFFC-2B2B-40E7-A50F-907DD5A2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C5912A-A57B-46AC-B4A2-C833EE48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F2C409-4174-43CE-8065-6892DFE5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D7090C-649F-47D1-B7C7-64E5A9E6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6B9434-8F19-4BB0-80E4-ACA87B85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8E97-1452-40FB-9799-06DC93E7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FE6E-64FD-49F1-951B-7E9059A3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C9F08E-218B-46F3-B7F4-586BA9A0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3E5DA5-FB05-45B5-AD42-7E845D89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09E3FB-9681-4A53-AFDA-1BF651E8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653F44-8D16-43A8-9CC1-E4C75CFE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BC2CE3-68E1-4099-8BB1-5E0ABEE9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B1B306-F4E4-441B-86E4-09715795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BCF10D-2AE3-4D61-B3D5-E5168FB0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6FACA5-D3BC-4D14-9841-8A1B4FA5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685488-511A-419D-8696-5FC49276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118147-CD93-475D-8B21-EB4C2B0F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73DE-94ED-4BC6-8D3F-3A3A70B5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7C087E-AC74-47C0-B724-60FAE557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6DA02A-ED84-44F4-A467-B408DEFE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2974C8-6E5D-4169-A991-B2541FA1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22DCA4-A39B-41B5-B323-8CB3FDBD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4EC116-CD27-4128-89A8-4C0D1794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5C0F39-AA46-48E7-8622-5920DAD7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AF0EAA-6746-4E18-9B88-57B765E4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950079-1C86-4F62-BFBA-528C2AA4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8C136C-EEF1-4703-832F-809BFFB8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5CE671-F01A-4881-9C5C-2F4346F5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250D-D1D4-4DF4-88CE-2A94AA38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D67E3F-D45C-45E8-9C6A-6430C571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825FA7-3983-4F5F-8157-7EE04921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2A373B-48EC-42C0-8ABC-04F02EE4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992A0F-A2C8-4266-B542-58CBB5CF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025062-F70E-4DA6-99CD-1EE5F7F0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C045C0-F6B1-4EE6-A968-A483526A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323600-A4D1-4EE5-932A-7BBC4A82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3E607B-4C02-45AA-9814-928FCC14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288163-A2E8-4011-88A7-B1D8A39A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49B337-2991-46FD-B998-298FB6DA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0E94-A65B-4CA2-A669-C8AC53FD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7C7ABD-55D6-46E4-B033-9AD1826D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71F4C5-A6F5-490A-AE09-70B1CD7A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A072C9-B648-49FC-B6F4-3AAD1A4B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7AA5AB-68A0-48E2-824F-7A042967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BFC683-5DA0-46EA-B839-F6441B45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2E7EDB-1443-40F1-9C96-FEFE5E0B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7620DA-3FF1-4148-BD38-96666EFC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6B7A71-98AA-4D6D-98E7-96D31D5E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CDB6F6-0BD3-4725-AB3C-076762A1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48C72A-B8F4-4D52-A67E-17FD74F0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9FB5-01CF-4A08-9504-A57A9874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0F7E16-1A34-43AE-B799-A2F48BF5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97D200-2653-41D9-90FF-7D4F71A3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E2DDFD-44CC-4DA2-B57F-B28B1731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128ACB-E0DE-414A-AEDA-2632F8E8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1EF9E7-6577-4306-98A9-874DDC16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F177BA-C96E-4C3F-9182-F0D34890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AA77DC-3C4C-4D59-978D-C1BAB273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AC06AB-1282-429B-8C68-696D901E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BF3756-28F1-4163-A5F6-2BC4B84B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EC5ED2-50B4-48DE-8BDB-1E0F091E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24825-CF84-4B5C-94A9-F2C343DA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706E08-F962-4065-A526-DCC039F6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3E4EB7-8EEF-46A8-9F98-329998B3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9EBBB3-B78E-4760-9782-4CDA6FDC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D34D9-2AE6-4C9B-A8B2-5729034D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EB291-DD72-4FA1-971E-2C07953A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3D160-9666-40F7-9B5C-8CCF848A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47968-E061-4E9F-8388-4852AF0C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730E-CFAF-4DA1-BD05-C133306F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C98FA-266F-440E-825B-162E28DF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DFD6E-C2BD-4C49-944A-139E339B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94414-3E5E-46CE-A0AF-54F09327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FD673-D8E6-4DA9-B176-C81F8901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98A0C-62F1-4FB5-8D12-55CDB1B5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3D504-9D07-411C-9E6A-EA754AE9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64AA3-FCEA-4347-97F3-0EE0ADFA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B5BC0-5464-4AFB-92CB-84A0ADB6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97B0D-1651-48F4-8313-82E4798B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951D4-61E7-4B65-9BC9-6E929269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13C7-663D-42CE-95F7-7CC37B50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4CCC3-CF63-4A8F-9545-A70A6492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05AC9-E4BA-4C8D-A7AE-760125C9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79828-1510-4E2B-9CEA-5C81DECC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D15E7-E465-4783-BEA5-FF3BB71C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A83C1-C85F-4664-AD2F-49228C17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B4A02-19DC-4AB5-80F9-4B792637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54808-D775-4E6E-8A4F-1D135933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071B3-6D21-4F81-B3BF-E58D2728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6F976-44CF-41E9-9BA5-BEBFAED5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ED11B-07A7-407C-ADBB-1292BE47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AD26-8E83-4A78-B0A2-50C9FB69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F816B-743E-43CB-BC10-3364D631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9DD5D-48EA-4AF9-98DB-DEFDFAC6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C7B7F-A4A1-403F-861D-1750E82F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588BF-E219-421B-9E35-49270D02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95DB8-672F-4D1A-BC3D-31C52974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AF1BC-D555-4AED-8D6A-0ECFE680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F4E0D-0179-4B09-8EBB-8C10CC7F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EA2FB-6B63-433A-B8CA-19D36D27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513B4-AEEB-4167-9280-CEBECB66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F5E41-7C0D-4605-8C5B-9E6BE4E5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59A3-32BD-42E4-87D2-0D347811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92E21-552A-4213-AC1E-31C02266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5613E-A51C-48F1-8A1C-801BE7AB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68568-8E22-451A-A2AB-2BD46692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AD1DC-58E3-4F8D-B7D9-3E7992C8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B44EC-292E-4BCA-9E83-04F95CD7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A6A5D-0971-431D-B7FC-CBDBB83F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5A998-3921-4E24-A866-0B111FE1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54B7A-E6E1-4822-9D1F-A06E54BF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77141-D09E-4935-AE33-66BFC041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874FC-38C7-4269-92CA-FB2E769A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3E92-1520-4D13-8323-3ED6982C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C2D9C-5B33-42F1-AD04-DC3485EF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99B9C-02B5-48D9-810D-85303653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21BD4-A625-46C6-A5D5-59474B1D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489C5-86DA-4BD2-BBB8-579FEAB8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A8018-C57C-4B16-A95A-E3675D74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69D9F-B408-475A-B1D7-878C8BAF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D2559-D341-41E5-8F67-9715A4BA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96078-2BEA-454B-A6F3-4FEE03C8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09A48-0151-4BC0-80D0-7080B1B1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1C561-6B1F-4871-BB11-461124C0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6982-D1EC-4993-BC4C-446883CA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EA8DC-74C7-4EC6-9A35-2FA3706E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0E125-71B0-4C35-8F94-2AE6682A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993AF-4337-486B-B1FD-5865347B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FCD60-C712-4401-8FCB-2F35BB49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447F3-11A9-42F3-ABA8-E0A550DD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60C9A-E779-45CA-AEF0-F5742C7D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D1946-9D82-45AE-9658-2A8947FF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A7F82-AD22-41F2-9611-FA955783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A5EE9-7C7D-4CE7-82EC-835B01EF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6B40B-3C25-4BD3-B738-8C9F495F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94D1-611F-4711-8130-6B7C814F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09C38-2347-4BDB-B901-B97D2A90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00AF9-4CE7-4FB7-994B-6414C0AC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24768-C34C-4EB2-956D-3345D811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2AA5C-2AAB-4980-BE5F-B29BCF89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30A02-1F71-44EC-8909-3A5DB21F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2825E-EA49-42A3-895A-B35C7093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EBD9B-6DB2-41B4-AB0E-B8AF0C982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431D9-EEE2-48E3-9122-1F4CB2B6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F9D7E-3B7D-4B8B-95F6-AC78EA5D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A098E-6DC2-4827-95A7-B5232D9F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82C2-30AF-4EED-A3AE-47A9754F6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3813-8E72-48EC-8E61-D0754CC1BD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386D-38AD-4FCA-AB90-AC0AAD84C4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EDA8-0586-43E2-9FAC-E56F98726C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18C5-D159-45FE-BD23-064D3C5446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2D4F-C27D-4F76-B868-5212B44F26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C007-6BBE-4EEB-A64B-926E55C807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FD71-909A-4767-BEF2-581162787C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EB22-337A-41C8-A13B-50B960D880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B295-369F-4F11-8222-05504F39BF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5E9F-92A1-4C49-9812-56E02F340F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FCC7-29F8-4C7D-BAC6-493C324377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3B78-5086-459C-8D95-E3C8D0D085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D30A-FC99-4FE8-9032-C8596D5B01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F916-B02F-46F9-BD75-F5C55959ED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43A4-A9F9-41D3-94FA-3F46D9EDF0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6A51-9C45-4571-8343-FC2750B3BD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175E-49DB-41CD-8E08-461F5C036A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B8B8-58B3-42F2-9D33-922D3056B8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CAD8-FF8A-4D2F-B748-E167509CF0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8A2A-BC6E-455E-850D-BE74574A60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D2BC-65B7-4E7B-BD81-6D02C2107C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E506-4E64-4121-981E-142EAB1939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C430-1DBF-4BCA-95EC-F31871F2F6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8EB6-9EAB-44B6-9F9F-ABF56DF28F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0E96-4BC1-4932-9BD8-82A4EB3FFB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D2DE-42AC-4365-8F98-D783A91E99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ADD2-D75F-4E81-AC11-312F578C8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F3CC-632E-4304-9A44-C31695B9C3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6689-6D98-45FF-BD82-30104B46B1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05AA-EF78-4873-8F9A-D47E1B6919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3F1C-60C1-4DD4-8B28-D557F0ABC5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5A00-7D23-48DB-972F-0779F6E1EF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A606-7794-4A1A-ADF4-18B32579F5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D50E-E24C-400F-9BE4-CD665B9F81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AA5C-50AE-402B-BDD0-F108AE740B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C192-3DE8-40E6-85D1-07C874EE7C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548D-BB6B-408E-B6A9-5B244EC347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6E4A-5B50-443F-B13E-CBF6EC6750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358E-B888-4AA8-9BDB-856C5347CF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424240" y="3133800"/>
            <a:ext cx="42955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1" descr=""/>
          <p:cNvPicPr/>
          <p:nvPr/>
        </p:nvPicPr>
        <p:blipFill>
          <a:blip r:embed="rId1"/>
          <a:stretch/>
        </p:blipFill>
        <p:spPr>
          <a:xfrm>
            <a:off x="466560" y="1695600"/>
            <a:ext cx="8210880" cy="3466800"/>
          </a:xfrm>
          <a:prstGeom prst="rect">
            <a:avLst/>
          </a:prstGeom>
          <a:ln w="0">
            <a:noFill/>
          </a:ln>
        </p:spPr>
      </p:pic>
      <p:sp>
        <p:nvSpPr>
          <p:cNvPr id="1057" name="矩形 2"/>
          <p:cNvSpPr/>
          <p:nvPr/>
        </p:nvSpPr>
        <p:spPr>
          <a:xfrm>
            <a:off x="1143000" y="3000240"/>
            <a:ext cx="8571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3"/>
          <p:cNvSpPr/>
          <p:nvPr/>
        </p:nvSpPr>
        <p:spPr>
          <a:xfrm>
            <a:off x="2428920" y="3000240"/>
            <a:ext cx="10713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4"/>
          <p:cNvSpPr/>
          <p:nvPr/>
        </p:nvSpPr>
        <p:spPr>
          <a:xfrm>
            <a:off x="4143240" y="300024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5"/>
          <p:cNvSpPr/>
          <p:nvPr/>
        </p:nvSpPr>
        <p:spPr>
          <a:xfrm>
            <a:off x="2214720" y="47149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6"/>
          <p:cNvSpPr/>
          <p:nvPr/>
        </p:nvSpPr>
        <p:spPr>
          <a:xfrm>
            <a:off x="3357720" y="4714920"/>
            <a:ext cx="6429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Picture 1" descr=""/>
          <p:cNvPicPr/>
          <p:nvPr/>
        </p:nvPicPr>
        <p:blipFill>
          <a:blip r:embed="rId1"/>
          <a:stretch/>
        </p:blipFill>
        <p:spPr>
          <a:xfrm>
            <a:off x="533520" y="1709640"/>
            <a:ext cx="8076960" cy="3438720"/>
          </a:xfrm>
          <a:prstGeom prst="rect">
            <a:avLst/>
          </a:prstGeom>
          <a:ln w="0">
            <a:noFill/>
          </a:ln>
        </p:spPr>
      </p:pic>
      <p:sp>
        <p:nvSpPr>
          <p:cNvPr id="1063" name="矩形 2"/>
          <p:cNvSpPr/>
          <p:nvPr/>
        </p:nvSpPr>
        <p:spPr>
          <a:xfrm>
            <a:off x="2143080" y="2143080"/>
            <a:ext cx="7858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3"/>
          <p:cNvSpPr/>
          <p:nvPr/>
        </p:nvSpPr>
        <p:spPr>
          <a:xfrm>
            <a:off x="6143760" y="21430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4"/>
          <p:cNvSpPr/>
          <p:nvPr/>
        </p:nvSpPr>
        <p:spPr>
          <a:xfrm>
            <a:off x="7215120" y="2143080"/>
            <a:ext cx="7858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5"/>
          <p:cNvSpPr/>
          <p:nvPr/>
        </p:nvSpPr>
        <p:spPr>
          <a:xfrm>
            <a:off x="2428920" y="3000240"/>
            <a:ext cx="12142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6"/>
          <p:cNvSpPr/>
          <p:nvPr/>
        </p:nvSpPr>
        <p:spPr>
          <a:xfrm>
            <a:off x="4214880" y="3000240"/>
            <a:ext cx="10000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7"/>
          <p:cNvSpPr/>
          <p:nvPr/>
        </p:nvSpPr>
        <p:spPr>
          <a:xfrm>
            <a:off x="1143000" y="428616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8"/>
          <p:cNvSpPr/>
          <p:nvPr/>
        </p:nvSpPr>
        <p:spPr>
          <a:xfrm>
            <a:off x="2857680" y="4286160"/>
            <a:ext cx="10000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矩形 9"/>
          <p:cNvSpPr/>
          <p:nvPr/>
        </p:nvSpPr>
        <p:spPr>
          <a:xfrm>
            <a:off x="4500720" y="4286160"/>
            <a:ext cx="7142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28760" y="928800"/>
            <a:ext cx="8267400" cy="57718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2" descr=""/>
          <p:cNvPicPr/>
          <p:nvPr/>
        </p:nvPicPr>
        <p:blipFill>
          <a:blip r:embed="rId2"/>
          <a:stretch/>
        </p:blipFill>
        <p:spPr>
          <a:xfrm>
            <a:off x="3643200" y="571680"/>
            <a:ext cx="2495520" cy="438120"/>
          </a:xfrm>
          <a:prstGeom prst="rect">
            <a:avLst/>
          </a:prstGeom>
          <a:ln w="0">
            <a:noFill/>
          </a:ln>
        </p:spPr>
      </p:pic>
      <p:sp>
        <p:nvSpPr>
          <p:cNvPr id="1025" name="矩形 3"/>
          <p:cNvSpPr/>
          <p:nvPr/>
        </p:nvSpPr>
        <p:spPr>
          <a:xfrm>
            <a:off x="2428920" y="2357280"/>
            <a:ext cx="15001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2546280" y="3178080"/>
            <a:ext cx="1882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5"/>
          <p:cNvSpPr/>
          <p:nvPr/>
        </p:nvSpPr>
        <p:spPr>
          <a:xfrm>
            <a:off x="2857680" y="4071960"/>
            <a:ext cx="1500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6"/>
          <p:cNvSpPr/>
          <p:nvPr/>
        </p:nvSpPr>
        <p:spPr>
          <a:xfrm>
            <a:off x="2214720" y="4572000"/>
            <a:ext cx="16430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7"/>
          <p:cNvSpPr/>
          <p:nvPr/>
        </p:nvSpPr>
        <p:spPr>
          <a:xfrm>
            <a:off x="1136520" y="5340240"/>
            <a:ext cx="9907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8"/>
          <p:cNvSpPr/>
          <p:nvPr/>
        </p:nvSpPr>
        <p:spPr>
          <a:xfrm>
            <a:off x="3635280" y="5329080"/>
            <a:ext cx="10000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9"/>
          <p:cNvSpPr/>
          <p:nvPr/>
        </p:nvSpPr>
        <p:spPr>
          <a:xfrm>
            <a:off x="2149560" y="6243480"/>
            <a:ext cx="15001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423720" y="804960"/>
            <a:ext cx="829656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1" descr=""/>
          <p:cNvPicPr/>
          <p:nvPr/>
        </p:nvPicPr>
        <p:blipFill>
          <a:blip r:embed="rId1"/>
          <a:stretch/>
        </p:blipFill>
        <p:spPr>
          <a:xfrm>
            <a:off x="428760" y="1066680"/>
            <a:ext cx="82864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4" descr=""/>
          <p:cNvPicPr/>
          <p:nvPr/>
        </p:nvPicPr>
        <p:blipFill>
          <a:blip r:embed="rId1"/>
          <a:stretch/>
        </p:blipFill>
        <p:spPr>
          <a:xfrm>
            <a:off x="447840" y="957240"/>
            <a:ext cx="8248320" cy="4943520"/>
          </a:xfrm>
          <a:prstGeom prst="rect">
            <a:avLst/>
          </a:prstGeom>
          <a:ln w="0">
            <a:noFill/>
          </a:ln>
        </p:spPr>
      </p:pic>
      <p:sp>
        <p:nvSpPr>
          <p:cNvPr id="1035" name="矩形 2"/>
          <p:cNvSpPr/>
          <p:nvPr/>
        </p:nvSpPr>
        <p:spPr>
          <a:xfrm>
            <a:off x="5929200" y="2428920"/>
            <a:ext cx="15004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3"/>
          <p:cNvSpPr/>
          <p:nvPr/>
        </p:nvSpPr>
        <p:spPr>
          <a:xfrm>
            <a:off x="1571760" y="3286080"/>
            <a:ext cx="10713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4"/>
          <p:cNvSpPr/>
          <p:nvPr/>
        </p:nvSpPr>
        <p:spPr>
          <a:xfrm>
            <a:off x="3606840" y="3282840"/>
            <a:ext cx="2239920" cy="374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5"/>
          <p:cNvSpPr/>
          <p:nvPr/>
        </p:nvSpPr>
        <p:spPr>
          <a:xfrm>
            <a:off x="2428920" y="4143240"/>
            <a:ext cx="4357800" cy="382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6"/>
          <p:cNvSpPr/>
          <p:nvPr/>
        </p:nvSpPr>
        <p:spPr>
          <a:xfrm>
            <a:off x="7715160" y="4994280"/>
            <a:ext cx="9255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7"/>
          <p:cNvSpPr/>
          <p:nvPr/>
        </p:nvSpPr>
        <p:spPr>
          <a:xfrm>
            <a:off x="857160" y="5429160"/>
            <a:ext cx="3357720" cy="378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2" descr=""/>
          <p:cNvPicPr/>
          <p:nvPr/>
        </p:nvPicPr>
        <p:blipFill>
          <a:blip r:embed="rId1"/>
          <a:stretch/>
        </p:blipFill>
        <p:spPr>
          <a:xfrm>
            <a:off x="571680" y="3214800"/>
            <a:ext cx="8219880" cy="13334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2"/>
          <a:stretch/>
        </p:blipFill>
        <p:spPr>
          <a:xfrm>
            <a:off x="357120" y="1928880"/>
            <a:ext cx="8325000" cy="1419120"/>
          </a:xfrm>
          <a:prstGeom prst="rect">
            <a:avLst/>
          </a:prstGeom>
          <a:ln w="0">
            <a:noFill/>
          </a:ln>
        </p:spPr>
      </p:pic>
      <p:sp>
        <p:nvSpPr>
          <p:cNvPr id="1043" name="矩形 3"/>
          <p:cNvSpPr/>
          <p:nvPr/>
        </p:nvSpPr>
        <p:spPr>
          <a:xfrm>
            <a:off x="1353960" y="1878120"/>
            <a:ext cx="17892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4"/>
          <p:cNvSpPr/>
          <p:nvPr/>
        </p:nvSpPr>
        <p:spPr>
          <a:xfrm>
            <a:off x="4154400" y="1892160"/>
            <a:ext cx="642960" cy="382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5"/>
          <p:cNvSpPr/>
          <p:nvPr/>
        </p:nvSpPr>
        <p:spPr>
          <a:xfrm>
            <a:off x="5500800" y="2786040"/>
            <a:ext cx="30002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6"/>
          <p:cNvSpPr/>
          <p:nvPr/>
        </p:nvSpPr>
        <p:spPr>
          <a:xfrm>
            <a:off x="3643200" y="3643200"/>
            <a:ext cx="378648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1" descr=""/>
          <p:cNvPicPr/>
          <p:nvPr/>
        </p:nvPicPr>
        <p:blipFill>
          <a:blip r:embed="rId1"/>
          <a:stretch/>
        </p:blipFill>
        <p:spPr>
          <a:xfrm>
            <a:off x="438120" y="857160"/>
            <a:ext cx="8267760" cy="5143680"/>
          </a:xfrm>
          <a:prstGeom prst="rect">
            <a:avLst/>
          </a:prstGeom>
          <a:ln w="0">
            <a:noFill/>
          </a:ln>
        </p:spPr>
      </p:pic>
      <p:sp>
        <p:nvSpPr>
          <p:cNvPr id="1048" name="矩形 2"/>
          <p:cNvSpPr/>
          <p:nvPr/>
        </p:nvSpPr>
        <p:spPr>
          <a:xfrm>
            <a:off x="928800" y="135720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3"/>
          <p:cNvSpPr/>
          <p:nvPr/>
        </p:nvSpPr>
        <p:spPr>
          <a:xfrm>
            <a:off x="857160" y="30718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1" descr=""/>
          <p:cNvPicPr/>
          <p:nvPr/>
        </p:nvPicPr>
        <p:blipFill>
          <a:blip r:embed="rId1"/>
          <a:stretch/>
        </p:blipFill>
        <p:spPr>
          <a:xfrm>
            <a:off x="423720" y="1076400"/>
            <a:ext cx="8296560" cy="4705200"/>
          </a:xfrm>
          <a:prstGeom prst="rect">
            <a:avLst/>
          </a:prstGeom>
          <a:ln w="0">
            <a:noFill/>
          </a:ln>
        </p:spPr>
      </p:pic>
      <p:sp>
        <p:nvSpPr>
          <p:cNvPr id="1051" name="矩形 2"/>
          <p:cNvSpPr/>
          <p:nvPr/>
        </p:nvSpPr>
        <p:spPr>
          <a:xfrm>
            <a:off x="928800" y="10717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3"/>
          <p:cNvSpPr/>
          <p:nvPr/>
        </p:nvSpPr>
        <p:spPr>
          <a:xfrm>
            <a:off x="857160" y="364320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1" descr=""/>
          <p:cNvPicPr/>
          <p:nvPr/>
        </p:nvPicPr>
        <p:blipFill>
          <a:blip r:embed="rId1"/>
          <a:stretch/>
        </p:blipFill>
        <p:spPr>
          <a:xfrm>
            <a:off x="480960" y="1238400"/>
            <a:ext cx="8182080" cy="4381200"/>
          </a:xfrm>
          <a:prstGeom prst="rect">
            <a:avLst/>
          </a:prstGeom>
          <a:ln w="0">
            <a:noFill/>
          </a:ln>
        </p:spPr>
      </p:pic>
      <p:sp>
        <p:nvSpPr>
          <p:cNvPr id="1054" name="矩形 2"/>
          <p:cNvSpPr/>
          <p:nvPr/>
        </p:nvSpPr>
        <p:spPr>
          <a:xfrm>
            <a:off x="928800" y="135720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3"/>
          <p:cNvSpPr/>
          <p:nvPr/>
        </p:nvSpPr>
        <p:spPr>
          <a:xfrm>
            <a:off x="857160" y="350028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18:2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